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11F-8A9E-46C7-B277-459996A2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B87-4B5B-41B3-86A6-2BDB0008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598122-37C4-4457-8020-493571E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9B1B3-8B88-47A1-8597-01C5ADF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93F12-0D33-4B3D-9082-A3BC544B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189D12-4E10-4C39-A35D-16D3BD2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443BCC-3ADB-4501-B29A-3DD800A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55B33-6352-4F55-8EDE-253D00A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42F6F-9811-49C1-BB9F-D460E684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D1320-D96E-4297-9AC7-7141CFCE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5086E3-26F1-4970-8E78-8E8404B8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1262-14C9-4B17-A91D-8E26E0F5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067-CFF1-4EC3-85CC-C5A0913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EB570-74E9-4F75-A454-DAD2742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8D281-EA66-45FE-B25B-513B510B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B7518-7357-4911-9CD5-1B4154C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F281A-EB27-4747-B10E-97158030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37299-783E-40DB-9DD0-953A3820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F339D-2AD5-4770-BF36-BA4E3C5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78BFB-8BD5-4CE3-9E33-E19B40C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D4B9F-0B9D-4C29-8312-94A51D6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01528-29FC-4657-95AF-1FF11EA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EC9B0-FBAE-42C8-A88F-730D50BD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9A5-84C2-43D5-B9D2-CB5880D2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FF28A-8787-4D32-80AB-65A62CFE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1C49-C66B-4B35-ACCF-9F87BBF8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4E85-C05E-42E5-A268-8D9B4B96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6AC20-6A8C-4528-92A1-366A607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483F-6CDE-47B3-8441-35A51E2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D0650-8E26-4CB3-A7AC-4684BF93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8ADA2-6053-4318-B827-271E227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32CD-F72B-45D0-A7BB-0CE4B2F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A8FC-F769-45A4-BEFE-3F7D8D7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9F10-8716-4598-856F-E006C1B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B930-F45A-42E5-96F1-EA0C94B4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D5CE3-3A60-4BCE-93CE-E3C4980A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C36F-5F36-41FD-B9B4-DED75CA9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B98F7-1F0E-404A-8955-311D978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9D442-D948-4E98-B5D8-C61AA9A4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BA14F-1CCE-41C0-9E6D-5D722072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1234B-CD4D-4344-BE06-F95D9FD7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505DF-1B1A-4F36-8990-9B0A96D9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DD4D9-1211-452E-99E7-112DBA5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A8580-3F6B-41BF-8839-6579BFF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FF6F8-80B2-41D3-8CA5-BB3EB3E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3854-B447-48B6-AFAB-7E4B846B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BACBC-1804-4558-BAB2-94D2352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F4146-85BB-40D3-AF07-25E839F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202B5-31DC-4C0B-B130-EFF0C2F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643A0-B0CC-4BBD-B25D-3131AA48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F4EC9-D09E-4010-B02A-79C0DEB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E4FAC-E67E-4CB8-A5ED-79E964A2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499D5-BD5A-4B71-9DD3-089E4C14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C6D88-F8DA-411F-86FD-054A0ED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18FC9-DDA0-41DA-9CFE-C693179C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5F28F-ACB4-4410-A886-304F176F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51DF-B6A2-4178-BC2D-E50F6F9E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B29FF-133C-45FC-B411-8B7C52C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DB153-8706-48A8-A029-B895E71A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891DE-F5DE-4893-9DCB-C6A6AE4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07795-D60E-4373-BF45-B98755C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95625-EF85-4478-A4A6-D6821892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704C9-1841-4420-8CBE-9C427DCF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A9C91-2BCD-45F0-B5F5-0BE25C5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75C08-B6F8-414F-9F52-65443D7A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6BDA2-D5E9-4B84-9417-804B31B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3876C-2A93-4DD3-899B-50C9B98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9E85-AEB2-4BB1-8F30-0093C26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0245E-AB81-43BE-9667-1D39A3C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84882-A079-4843-8BF3-A6B2518A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D3A7F-E1FB-421A-8911-3F8F9078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F7467-D831-4F55-84C2-45F267E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CEE8E-CB14-4611-8B84-18CA1F3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D22F5-AB9D-4FAC-9593-0E54232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8155B-018F-4A5E-B92C-FD5C910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BA8D6-D489-4994-ADBB-8E9D45BE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41CC4-EB51-461F-8458-65E0D2F3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B2A-0387-4E4D-845C-F0DFDED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5A3-FDB9-47B1-8A81-680C2187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1D02-BF42-470A-B6C3-E7A51AD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681-3D92-40E8-8F01-ABDC94DB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7556-21B8-4B81-B348-F7F8A47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A58C-1770-4E1C-819A-66B4F4F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3E3-9AE8-43AA-AA77-20656535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25F-8244-460C-A852-998DBA6B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963F-8F6E-4B0F-9767-083B40CB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0CEF-F9BB-4C06-AC2E-9F5E00AD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3A19-A8EE-4BCC-8CE4-2C3BE96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E84F-619D-45B5-8478-2AB4D70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37CE-BF82-4123-A651-D0A9B3D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E5CF-DD63-4FA0-A5C8-0B7ED65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86E-FD06-4B2A-B2FF-847256DD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3914-00E3-4445-8779-E1071CD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37D1-490B-4E83-8F6A-FF1E98A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212D-7740-451A-8696-0A8CFDAC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FC49-1A69-462F-9A7A-21A0386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2F7B-4360-4BA9-9C91-2640AAA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9D2D-69DA-4798-B3EA-2BFB2561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41C8-D3A5-46AE-911B-5CA8103B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1514-57A6-464E-8161-FDA66132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A29C-7E3D-48F0-B9AC-11E59BB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B0BC-DC9F-4377-9668-EDA6F65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DEB-0C33-4786-B2AD-BA3D9E7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EF47-D389-4793-A38D-491B90E6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0A9E-2DF1-4CE7-B7F0-AF5A944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B893-5084-417F-BA30-1C5037B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1334-9E3B-4F4E-86EF-5E07DB8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1E7E-C61A-43BC-95F2-BBFFE86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C17FF-C105-4EE6-BB21-5176392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632E-4578-45AA-981C-365740DC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B301-9BEC-4159-AC47-7F3F174A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56F0-DE90-49C3-A185-EBA7E1A8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553C-9953-4347-9FD7-B3AFA1B2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8DC-B703-438C-9D98-6A283E7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170F-7D06-4BFD-BFD5-1EC44B4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CAFC-868F-4B26-BD84-FB2D924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6BF4-7D39-41E1-86F8-D1983620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BD62-B533-4FEB-8824-79147A3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C28F-41AC-4C4E-8176-E8E7E39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FD0A-4D46-4F9C-B46D-DB87F75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A186-8EB5-4A10-BF9E-790C105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2CA5-15D9-489C-A2D7-D6EFE84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955C-BC0C-465C-94A2-FF4B651E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758D-F380-415B-9A6A-BADBCBCE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CF9-2E49-43FE-8F22-DB1238E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8A337-C191-4511-9EF6-F2A2F8C5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B78A-7465-4502-BE6F-E57EC5B8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6ABC-0F93-413E-998A-77167740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84C77-F343-450C-B647-051D623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06FC-E50C-46D3-AAE1-7D6466CD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D971-BE6F-41D8-9BAB-CE68327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5131-2366-4EDD-8B90-D5787B83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A345-E6AC-43E6-9442-170A2B3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8677-FE1F-420E-91C6-465432F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0858-36EE-4C65-820D-CE9A8ED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500-4446-418C-BD75-285265A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2839-A5A2-4DFE-9FDB-F178C56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43A7B-849B-4C72-8BF9-1477C039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0808-1010-420A-B262-B6071ADE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FD92C-271A-44F3-92BF-D93DEA68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859C-D0EC-419E-AABA-C53DFEB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0528-975A-49E5-8A4E-6331ED03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A1A68-5AE2-4175-B5B2-FA1F246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B5BA7-9E5E-47F6-8240-456E27A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561AE-E9FC-4FDD-B539-A9DBCF0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47D2-6CA2-40FF-9E85-AB0C00CA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744-8363-4801-9EBC-198BF0B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D77C2-1AE9-468A-95B4-D15E74B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FA6A-7A95-4497-A073-8E3487F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1762-7311-475F-B141-C9F71F5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BEE8C-C2E9-4E9D-8CE7-C7FBF9E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226F-FF64-4524-8920-706855FB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4E42-C95B-4C24-AF64-E74C92D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00D6-7430-4FB3-BA01-0E4D80D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5C1D9-A140-44A6-B818-4258F69E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6E5B9-56A8-4331-BF96-CEF10BD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1235-05D8-455B-9D70-2E7DB59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3F4-3940-4EB6-8C6C-4401E920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222B-99E7-4B0F-9CDE-217DF2E8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63F4-A895-4999-B635-39F40A9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56163-23C4-4349-A190-D1729AB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AF3B-4A3B-4D59-AA32-4B3EC38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0D15-CD5B-4425-B791-A482F990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BCA1-FE81-4E95-880A-28D11CBC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BFE8-A509-43B9-8F76-262694C7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BC14C-3402-4AE1-8FD7-B0CF6D9C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DA78B-6671-4A8F-B0B2-34C5135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AA7161-30F1-4C44-A8A0-09E9989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50D-6F2A-419D-9B7F-997A4F64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7BF-247C-4152-9CD9-61CAB8221A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C7D-1565-4724-AF90-185C1A0599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624-4B5B-465F-A396-361F374ECB6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D36-B8CD-45EF-9277-E791CB149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E6B-AA12-48BD-B16F-295EB6B50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B4E-C099-468E-A2E4-C1BF20F85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84C-BB67-4E71-9EC4-0C726118E2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9F5-946A-464D-A25D-1E1DD1BE6F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3BD-7144-4037-A939-FF0C2D10D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993-70A2-41EC-8B3C-F7540F5C05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30F6-EB77-4539-A688-8D2C328EB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9DDB-B243-4116-A187-5CE9D3FB8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FBE-3BA0-4AFD-B064-725BBA6EF9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6T18:43:31Z</dcterms:modified>
  <cp:revision>7</cp:revision>
  <dc:subject/>
  <dc:title>Russia’s Economy</dc:title>
</cp:coreProperties>
</file>